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18C-983B-4668-8391-15490599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CB3A-7D33-46B3-93CB-7D10861A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D79-95CB-403A-8224-C1D6B22E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4A5-48B9-4E7B-8DED-56B5060A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581-9426-4419-9E0B-102F7D06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4C6-4695-4842-8FC7-6EFC746A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1EA-956F-4F8E-B437-EA1D332A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EF3-8F1F-49E4-9433-3C419F22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AA5-C4EA-4189-A279-6FBA326A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D02-CA6B-440C-9FB8-E4AE8879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A0C-FD30-4BBA-8BE5-B493039D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905-C735-49E7-906B-CD2906EF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8FB7-7192-42A5-AB51-7599D6454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Disch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Discharge9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Discharge10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AdultDischarge11.jpg"/>
          <p:cNvPicPr/>
          <p:nvPr/>
        </p:nvPicPr>
        <p:blipFill>
          <a:blip r:embed="rId1"/>
          <a:stretch/>
        </p:blipFill>
        <p:spPr>
          <a:xfrm>
            <a:off x="766800" y="819000"/>
            <a:ext cx="76104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AdultDischarge12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AdultDischarge1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Discharge1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Discharge2.jpg"/>
          <p:cNvPicPr/>
          <p:nvPr/>
        </p:nvPicPr>
        <p:blipFill>
          <a:blip r:embed="rId1"/>
          <a:stretch/>
        </p:blipFill>
        <p:spPr>
          <a:xfrm>
            <a:off x="771480" y="838080"/>
            <a:ext cx="7601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dultDischarge3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Discharge4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Discharge5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Discharge6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Discharge7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Discharge8.jpg"/>
          <p:cNvPicPr/>
          <p:nvPr/>
        </p:nvPicPr>
        <p:blipFill>
          <a:blip r:embed="rId1"/>
          <a:stretch/>
        </p:blipFill>
        <p:spPr>
          <a:xfrm>
            <a:off x="757080" y="833400"/>
            <a:ext cx="76298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8:43:52Z</dcterms:created>
  <dc:creator>zcui</dc:creator>
  <dc:description/>
  <dc:language>en-US</dc:language>
  <cp:lastModifiedBy>rbalne</cp:lastModifiedBy>
  <dcterms:modified xsi:type="dcterms:W3CDTF">2009-08-12T13:56:45Z</dcterms:modified>
  <cp:revision>1</cp:revision>
  <dc:subject/>
  <dc:title>TRAC</dc:title>
</cp:coreProperties>
</file>